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48B-CA82-427F-B17F-674DD7D8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E6C-5936-42C5-B33E-A6F58394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4FE-A415-48A3-A3DF-4CC226A1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66E-C426-4D58-9119-2D928314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997-6552-45ED-81D8-E98517AB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9CC-F817-43C1-A3B0-6DC83423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B87-6637-491C-ABCB-3D0ACDAF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281-60CD-4E3E-997C-9B7CB4B1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B98-F194-4558-B5EE-5D2011DD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8E4-C69A-4300-8E03-FF4B0B5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975-E073-444D-B8A3-1EF3D0D2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4AB-D779-4388-9164-494C5EF4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D608-D4B0-459A-83D4-9634AD00FD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iority areas for consideration, analysis, and evaluation (cont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ent distribution of costs and 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ceability and food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ing at ports of ent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reamline multi-agency regulatory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and private sector collabo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visory boards and committ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rtification of service provid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tnering for risk manag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Failure and Legislative Failu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vice programs to facilitate efficient 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ulatory policies/programs affect 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ed here on market fail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also found instances of legislative fail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exists for continuing reexamination and periodic evaluation of policies and programs affecting food and agricultural market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GRAM CHALLENGES AND FUTURE OPPORTUNITIE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rize findings and policy options identi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jor forces of change in the marketing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jor options identified for policy chang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rces leading to changes in marketing polici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ablishment and evolution of the various policies and progra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ces possibly necessitating policy or program adjust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ec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et Stru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olution of markets to coordinated and managed supply cha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ed with poultry industry vertical integ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 and central wholesale market disinteg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obalization and international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 and aid iss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safety concerns and port-of-entry insp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ative pests and pathogens, zoonotic diseases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et Structure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national firms with progressively larger market sha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generation cooperatives; local food outl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conomies of siz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terculture of smaller producers collabor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chn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t insp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safety and trace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o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imal welf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pectations of Market Perform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/production ef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etition/allocative ef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ynamic ef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ience, health and consumer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saf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ety vs.homogene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market social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iority areas for consideration, analysis, and evalu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taining market efficiency; structural ba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tablishing balance in contract mark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cal foo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toring USDA cooperative sup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ing federal marketing order authority for farm-level fresh produce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ency of policies across program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-benefit and feasibility analysis prior to regulatory deci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ent distribution of costs and 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cp:lastPrinted>2012-01-30T14:40:42Z</cp:lastPrinted>
  <dcterms:modified xsi:type="dcterms:W3CDTF">2012-06-05T20:20:15Z</dcterms:modified>
  <cp:revision>57</cp:revision>
  <dc:subject/>
  <dc:title>U.S. Policies Affecting Food and Agricultural Marketing</dc:title>
</cp:coreProperties>
</file>